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DF3-C9B8-4DE6-B094-89C5ACD4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4C8-5798-47D1-A2B8-83439485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E32-A73D-4711-9F2D-4E4D39B4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BE9-0D93-45C7-9C7E-0DA26FFC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2E16-2D4A-42F5-91F0-99838A3F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F4A2-B212-489E-8967-A503E865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31C6-21DC-46EA-9154-D92CF982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BA3D-41C2-4FC6-8EB6-5899C9F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C6B6-A925-4EA6-8EC2-2C61375E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D302-CD55-488B-A458-84B48BB2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AF45-CD11-40E9-808B-6EC162F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2A4-64BC-458A-B930-A622116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8B18-F353-4BC0-8758-78216C3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B02C-4D3D-4FA0-B9CE-4EFFED6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0F0-E8B1-4FF3-9253-8E3293CB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D1E0-0F8A-4E1F-8D07-421011D4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6EAF-10DD-4742-A695-41353D25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EB4-0E86-494C-966C-273C1B7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454-5CB8-4848-BFF4-BA945392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A81-9CDD-43CE-B90F-A679DB6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C80-06A9-4CB3-A347-77B1439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2D6-60D3-40B7-8E52-F599090B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47B-0D49-4E37-BA20-AD4A542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358-006A-4D03-8536-0986759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1353-A718-414C-B1BE-EA6FF8DB90A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2C6-19AF-491B-9B4B-964287168A9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N/name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Chris McC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riabl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cc00"/>
                </a:solidFill>
                <a:latin typeface="Arial Black"/>
              </a:rPr>
              <a:t>A symbol or </a:t>
            </a:r>
            <a:r>
              <a:rPr b="0" lang="en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name</a:t>
            </a:r>
            <a:r>
              <a:rPr b="0" lang="en" sz="3200" spc="-1" strike="noStrike">
                <a:solidFill>
                  <a:srgbClr val="ffcc00"/>
                </a:solidFill>
                <a:latin typeface="Arial Black"/>
              </a:rPr>
              <a:t> that stands for a value. For example, in the expressio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r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inite combination of symbols that are well-formed according to applicable rul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3D Render of an Abacus in Bright Colors - Vendor: iClipart"/>
          <p:cNvPicPr/>
          <p:nvPr/>
        </p:nvPicPr>
        <p:blipFill>
          <a:blip r:embed="rId1"/>
          <a:stretch/>
        </p:blipFill>
        <p:spPr>
          <a:xfrm>
            <a:off x="4267080" y="42670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mbolic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ymbolic rule is the function or formula you use or create to solve a problem. It is called symbolic because we use symbols (x, y, a, b) instead of words and numbe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\begin{displaymath}{\left[3x^2 +(2+3i)x+7\right] \cdot \left[x^4 +\frac{2}{3}x^2&#10;+(5+3i)\right]}&#10;\end{displaymath}"/>
          <p:cNvPicPr/>
          <p:nvPr/>
        </p:nvPicPr>
        <p:blipFill>
          <a:blip r:embed="rId1"/>
          <a:stretch/>
        </p:blipFill>
        <p:spPr>
          <a:xfrm>
            <a:off x="3505320" y="5257800"/>
            <a:ext cx="2904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56:57Z</dcterms:created>
  <dc:creator>christopher.mccain</dc:creator>
  <dc:description/>
  <dc:language>en-US</dc:language>
  <cp:lastModifiedBy>christopher.mccain</cp:lastModifiedBy>
  <dcterms:modified xsi:type="dcterms:W3CDTF">2010-11-23T14:18:55Z</dcterms:modified>
  <cp:revision>2</cp:revision>
  <dc:subject/>
  <dc:title>     Vocabulary</dc:title>
</cp:coreProperties>
</file>